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D2AC5-3F6D-475A-9C3A-5896303718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y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Q4L5 Question 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o firs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let us review the major period of Bible history up to this poi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Sam 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The Philistine giant, Goliath,draws near, despises, defies, and curses him, v. 41-4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 David answers with his defiance, v. 45-4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They draw near to each other, and David slings a stone, hits Goliath in the forehead, kills him, and cuts off his head with Goliath's own sword, v. 48-5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The Philistines flee, and are pursued by the Israelites, v. 52-5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.David brings the head of the Philistine to Jerusalem, v. 5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. Conversation between Saul and Abner concerning David, who is in consequence brought before Saul, v. 55-5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am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Jonathan and David commence a lasting friendship; and David acts prudently with respect to Saul, v. 1-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Saul becomes jealous of David, on account of the esteem in which he is held in Israel; and, in his fury, endeavours to destroy him, v. 6-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David is made captain over 1,000 men; and the people love and respect him, v. 13-1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Saul, in order to ensnare him, offers him his daughter in marriage, v. 17-2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Saul requires 100 foreskins of the Philistines for dowry; hoping that, in endeavouring to procure them, David might be killed by the hands of the Philistines, v. 2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David agrees to the conditions, fulfills them, and marries Michal, v. 26-3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Sam 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nathan pleads for David before Saul, who is for the present reconciled, v. 1-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vid defeats the Philistines; and Saul becomes again envious, and tries to kill him, but David escapes, v. 8-1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ul sends men to David's house, to lie in wait for him; but Michal saves him by a letting out the window.  v. 11-1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the distress of having your life threatened by the most powerful man in the count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in trial that we lean hardest upon God, if our hearts are really in tune with serving Go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slide analyzes a Psalm David wrote under this pressure-situa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at David leaned upon God in this tria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e various terms he uses to describe Go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d God of ho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Str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def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Lord our sh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God of mer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hould be the way we feel about G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get through all of our trials and tests as long as we know God in all of these 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re “more than conquerors” – Rom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an arial view of the hometown of Samu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where David went to find part of God’s answer to his prayer in the Psalm we just re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xt slide draws us in closer to the specific area of Ram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identified today as “er-Ram” five miles north of Jerusal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borah, the prophetess, dwelt and judged Israel from this vacin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also Samuel’s birthplace, home, and burial pl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ng form: Ramathaim-Zophim – 1 Sam.1: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that we have seen a picture of the area, locate it on the ma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just north-east of “Jebus” or Jerusal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am 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 flees to Samuel at Ramah, v. 1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ul, hearing of it, sends messengers there several times to take him; but the Spirit of God coming upon them, they prophesy, v. 19-2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ul, hearing of this, goes after David himself, and falls under the same influence, v. 22-2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31FC-E5E3-4A1B-B1EB-DF3E68D19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EAFF-1161-4C0E-A18F-564672B45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7192-3001-42C7-9273-97FDE8FA4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8B7E-F178-4D1C-8F5D-8DEC9BBB0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0F9873-51B9-4A55-887C-7467D6139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4CC2F4-D823-4F43-8CAA-27A38600B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6C4851-57A4-430E-8D49-BA59CE9DF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1AAE35-9474-4E94-A2C6-A54F2D29A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75E5B3-2E1B-491C-9BD3-7CE0D21EC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306FF7-5B6E-4914-8BA0-BD828425D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31B847-1573-405D-971D-A3942B02A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7574-446F-4331-906F-DBFE55095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301187-EA0C-49E6-8F6F-FE4CABD15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6614F0-74D5-4C3A-8ABC-64F5F930B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794FC5-C156-46BE-A465-4912F8FC9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44B47F-4551-466C-8269-768C0F1E6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5010F4-9E4F-485D-B1A8-9335FD753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04B5-0EFF-49B2-9A65-0963B5C72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0682-2F7F-41F5-B72A-6C1FB97A6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EAD2-6735-4BE5-954A-49D537792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0484-B2A3-4384-98B6-AE35CD6B0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D096-FDD2-4A42-89A5-D2A13CA76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E608-762F-49C0-B62A-2F3EB34E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69C8-4AFD-4505-A4DB-11ABDF699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B3B86-0D27-46D8-BD5A-A039154F77E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13FFA-6AAE-45BD-B6B1-B2162A2E6EE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The United Kingdom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rter 4, Lesson 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Samuel 18-19; Psa.5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g.23-2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eview Major Timelin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att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riarc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xod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quest of 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d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ted King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au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av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om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324480" y="2819520"/>
            <a:ext cx="10670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6324480" y="3047760"/>
            <a:ext cx="10670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467480" y="2895480"/>
            <a:ext cx="1371600" cy="785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n the last less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id had become a hero in Isra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the defeat of the Philistine giant, Goli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In the aftermath of David’s heroic act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nathan admires David – 1 Sa. 18:1-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id prospers in Saul’s service – 18:5-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ul has slain is thousa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vid his ten-thousa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ds that sent Saul into jealous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ul’s hatred for David grows – vs.10-3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aul’s Jealous Hatre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ds to his murderous pl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his eyes David must d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nathan pleads for David’s life -19:1-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chal helps David escape – 8-1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 the stress of having his life threatened, David writes down this prayer –Psalm 5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salm 59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salmist prays for deliverance from his enemies, whose desperate wickedness he describes, v. 1-7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professes strong confidence in God, v. 8-1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speaks of the destruction of his enemies, v. 11-15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praises God for benefits already received; and determines to trust in Him, v. 16-17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2590920" y="380880"/>
            <a:ext cx="38955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avid Goes to Ramah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517680"/>
            <a:ext cx="9144000" cy="63403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3048120" y="228600"/>
            <a:ext cx="28098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Modern Ramah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920880"/>
            <a:ext cx="9144000" cy="59371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3733920" y="228600"/>
            <a:ext cx="1724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amah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4343400" y="990720"/>
            <a:ext cx="76320" cy="39621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David Finds God’s Protec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Conscientious Frie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u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a company of proph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God’s power to turn things around 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Sam.19:18-2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2T13:08:52Z</dcterms:created>
  <dc:creator>Terry W. Benton</dc:creator>
  <dc:description/>
  <dc:language>en-US</dc:language>
  <cp:lastModifiedBy>Terry Benton</cp:lastModifiedBy>
  <dcterms:modified xsi:type="dcterms:W3CDTF">2005-04-12T18:33:34Z</dcterms:modified>
  <cp:revision>2</cp:revision>
  <dc:subject/>
  <dc:title>The United Kingdom</dc:title>
</cp:coreProperties>
</file>